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AADF-8655-4A17-9152-0185AF6AE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E05-9072-47F1-A5CC-24A88AE0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2E82-0B31-4F02-AF5F-27025580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DEB4-3822-42D3-8100-58B460C9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D4593-28A9-40E2-8176-FAE5C3A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E29D-8932-45C3-B3C2-1BC6543E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2AC5-67FA-4C43-B84E-FAB24833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DC40-7E7E-4407-9798-84CC4AC7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492D-FC11-4554-B776-38B7451D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0A5C-FEF3-483F-B24F-F4DED83C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BAB5-D2B6-4EE4-915A-FE6EF14D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7E6E-1419-4BCA-B8A9-C7381074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D20-082E-4301-B895-A4D028AF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B0F7-7A4C-4542-8644-15B1BADE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DD7-77F7-4AD7-9605-8938A194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C40F-8527-4265-9EEA-853957AE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89A-1C55-40E4-9216-EEB80EDB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E195-BC12-420C-B959-0A6481E3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BBE-EDFD-4B37-BD56-2F746EBF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4C57-107E-4488-8618-A11D0B40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D296E-979B-4886-B242-048B491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ED32-F537-4A51-A4D9-DCEA1188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CA62-8B86-46E7-B6BE-AF0E1A1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CE77-D1DA-4BDF-93EC-CDD3618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3F23-4898-4CA7-9106-98256F0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CB2A-DCDD-464F-A388-499240E5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AD4-63D7-4B65-B227-C74FDAE17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E18-0481-441F-A412-F68A42534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NTER LINE UNIFIED POWER QUALITY CONDITIONER</a:t>
            </a:r>
            <a:br>
              <a:rPr sz="4000"/>
            </a:br>
            <a:br>
              <a:rPr sz="66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495320" y="44197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DLI AGA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AN DONTHARABO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YSTEM RESPONSE WITH OUT IUPQ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ject 2" descr=""/>
          <p:cNvPicPr/>
          <p:nvPr/>
        </p:nvPicPr>
        <p:blipFill>
          <a:blip r:embed="rId1"/>
          <a:srcRect l="-1444" t="-176" r="0" b="-2034"/>
          <a:stretch/>
        </p:blipFill>
        <p:spPr>
          <a:xfrm>
            <a:off x="1447920" y="24382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2367000" y="624780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rcRect l="-1556" t="-173" r="0" b="-1799"/>
          <a:stretch/>
        </p:blipFill>
        <p:spPr>
          <a:xfrm>
            <a:off x="838080" y="1371600"/>
            <a:ext cx="693432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90680" y="5866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SYSTEM RESPONSE WITH  IUP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13" descr=""/>
          <p:cNvPicPr/>
          <p:nvPr/>
        </p:nvPicPr>
        <p:blipFill>
          <a:blip r:embed="rId1"/>
          <a:srcRect l="-1556" t="-1958" r="0" b="-2126"/>
          <a:stretch/>
        </p:blipFill>
        <p:spPr>
          <a:xfrm>
            <a:off x="1219320" y="1905120"/>
            <a:ext cx="7010280" cy="3728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367000" y="5942880"/>
            <a:ext cx="47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bc_31,kv(voltage at third bus on feeder-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16" descr=""/>
          <p:cNvPicPr/>
          <p:nvPr/>
        </p:nvPicPr>
        <p:blipFill>
          <a:blip r:embed="rId1"/>
          <a:srcRect l="-1556" t="-878" r="0" b="-2038"/>
          <a:stretch/>
        </p:blipFill>
        <p:spPr>
          <a:xfrm>
            <a:off x="1143000" y="1371600"/>
            <a:ext cx="6280200" cy="43513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2290680" y="594288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bc_21,A(current at second bus on feeder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18" descr=""/>
          <p:cNvPicPr/>
          <p:nvPr/>
        </p:nvPicPr>
        <p:blipFill>
          <a:blip r:embed="rId1"/>
          <a:srcRect l="-1444" t="-2107" r="0" b="-1742"/>
          <a:stretch/>
        </p:blipFill>
        <p:spPr>
          <a:xfrm>
            <a:off x="990720" y="1143000"/>
            <a:ext cx="7086600" cy="44956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2290680" y="579060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c 1a(voltage across the feedback capaci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PQC is able to protect the distribution system from various disturbances occurring either in Fee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nsitive load is fully protected against sag/swell and interrup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presence of IUPQC the performance of the system is impr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6600" spc="-1" strike="noStrike">
                <a:solidFill>
                  <a:srgbClr val="ff9900"/>
                </a:solidFill>
                <a:latin typeface="Comic Sans MS"/>
              </a:rPr>
              <a:t>TH</a:t>
            </a:r>
            <a:r>
              <a:rPr b="1" lang="en-US" sz="6600" spc="-1" strike="noStrike">
                <a:solidFill>
                  <a:srgbClr val="00b0f0"/>
                </a:solidFill>
                <a:latin typeface="Comic Sans MS"/>
              </a:rPr>
              <a:t>AN</a:t>
            </a:r>
            <a:r>
              <a:rPr b="1" lang="en-US" sz="6600" spc="-1" strike="noStrike">
                <a:solidFill>
                  <a:srgbClr val="00b050"/>
                </a:solidFill>
                <a:latin typeface="Comic Sans MS"/>
              </a:rPr>
              <a:t>KQ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4" descr=""/>
          <p:cNvPicPr/>
          <p:nvPr/>
        </p:nvPicPr>
        <p:blipFill>
          <a:blip r:embed="rId1"/>
          <a:stretch/>
        </p:blipFill>
        <p:spPr>
          <a:xfrm>
            <a:off x="835200" y="2206800"/>
            <a:ext cx="80596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S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improve the power quality of two feeders in a distribution 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new connection for a Unified Power Quality Conditioner (UPQC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vice (IUPQC) is connected between two feeders coming from different sub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improving the power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OWER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Harm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No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S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Voltage Flic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rans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SINGLE  LINE DIAGRAM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STRUCTURE OF IUPQ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500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TYPICAL IUPQC CONNECTED IN DISTRIBUTION SYST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382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UNT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809720" y="1905120"/>
            <a:ext cx="5524560" cy="4038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IES CONNECTED VS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86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01:39Z</dcterms:created>
  <dc:creator>shruthi</dc:creator>
  <dc:description/>
  <dc:language>en-US</dc:language>
  <cp:lastModifiedBy>rainbow9</cp:lastModifiedBy>
  <dcterms:modified xsi:type="dcterms:W3CDTF">2010-09-03T12:53:43Z</dcterms:modified>
  <cp:revision>14</cp:revision>
  <dc:subject/>
  <dc:title>A PROJECT REPORT ON  INTER LINE UNIFIED POWER QUALITY CONDITIONER                  </dc:title>
</cp:coreProperties>
</file>